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726-4406-4722-9145-5940244083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ледствие специфики радиокана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ёмное устройство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мимо сигнала принимаемой радиоста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сегда будут воздействовать различного рода помех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этому качество радиосвяз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мое достоверностью принимае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т определя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н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итер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хозащищён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оканал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идов помех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льшой скучен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диосвя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на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ном пространстве, могут возникнуть помехи от побочных излучений передающих устройств.  Целью  проведённых  наших  экспериментов  как раз и ставилось – определить воздействие такого рода помех на радиоприёмные устройства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лич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пазон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диоволн.  За  основу  источника  радиосигнала  с  значительным  уровнем  побочных  излучений  бы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 передатч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диоста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-14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спользова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посредственно  с  усилителя мощности минуя УСС. Сразу отмечу, что все проведённые эксперименты ничего общего с радиолюбительской тематикой не имеют и для радиолюбителей могут быть только рекомендательного характера.  Все  измерения провод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санты командного и  инженерного  факультетов  Полтавского  военного института  связи  при выполнении  курсовых  и дипломных  работ. В  ходе  таких работ, когда  позволяла обстановка  и  время, были проведены 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ов которые могут заинтересовать радиолюбителей использующих радиопередающие устройства. Их результаты и выводы по ним отображены в данном докладе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  регулировки  конденсатора  нейтродинирования  представляет собой латунную ось,  с  прорезью  для  вращения  его  с  помощью отвёртки. С целью соблюдения мер техники безопасности, привод регулировки размещён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алеке от токоведущих цепей большого напряжения. Для более тщательного и точного подбора ёмкости нейтродинирования целесообразно  проводить эту работу при услов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я  УМ в рабочем состоянии, т.е. в корп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регулировку при установке УМ  вне корпуса, с подключением его с помощью ремонтных шлангов – не рекоменду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 возможности использования одной антенны  на  приём  и  передачу применяется реле  РЭВ-15. Выход  на  приёмник берётся с конденсатора ёмкостью 12 пФ, который подключен  к аноду лампы ГУ-43Б постоя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 отключив его  от  корпуса.  Преимущество  данной схемы в том,  что высокодобротная  резонансная  система  усилителя задействована  и  на  приём, повышая  тем самым  селективность  приёма, особенно  на  НЧ диапазонах. С  целью  согласования  с  входом  приёмника  применяется  согласующий  трансформатор  на  ферритовых  кольцах  с  объёмным витком. При передаче  конденсатор заземляется, тем самым заземляя вход приём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 срабатывания  реле  берётся  коммутирующее  напряжение  27  вольт, подаваемое на реле полудуплекса усилителя мощности. Замеры  ВЧ  напряжения  с  помощью  прибора  ВК7-15  на  стороне для подключения приём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аботы усилителя мощности на передачу показали, что данный способ для входных цепей приемного устройства - безопасен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е РЭС-9, подключенное параллельно реле полудуплекса, предназначено для включения трансивера (передатчика) на переда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нодную цепь лампы выходного каскада включён  П – образный колебательный контур.  Этот  контур выделяет  усиленный сигнал  на основной рабочей частоте,  ослабляет высшие гармоники рабочей частоты и трансформир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вивалентное сопротивление анодной нагрузки лампы в сопротивление, равное входному активному сопротивлению  УСС.  Применение П – контура обусловлено  его  высокими фильтрующими  свойствами по сравнению с други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ми.  2,3,4 гармоники  ослабляются  контуром  примерно  на  40,50 и 60 дб. соответственно.  Такая  степень  ослабления  гармоник  достигается  за  счёт  высокой  добротности  контура  и  составляет  около 1 50 – 20  едини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ки  более  высоких  номеров  ослабляются  контуром  значительно хуже  за счёт влияния паразитных параметров  и  нарушения  условий согласования.  Однако,  несмотря на принятые меры, высшие гармоники вследствие недостаточно  эффективного  их  ослабления  в  усилительном тракте  всё  же будут излучаться  передающим  устройством  и  оказывать мешающее действие радиоприёмникам и радиостанциям работающим в коротковолновом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ровом диапазоне ультракоротких волн.  Это следует  обязательно  учитывать  при  размещении  радиоприёмных  устройств  и  радиостанций  УКВ  в  непосредственной  близости от передатчика радиостанции Р-140.  Вот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эксперименте, как отдельным вопросом, мы и производили замеры уровней побочных излучений на высших гармониках рабочих частот самого усилителя мощности. Замеры уровней побочных излучений с применением У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штатных передающих антенн производились по отдельной программе и в данном докладе не отображается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50 метрах от радиостанции Р-140 были развёрнуты радиорелейная станция Р-409, работающая в  диапазоне 60-420 МГц  и  радиостанция УКВ диапазона 005,  работающая  в диапазоне 30-110 МГц.  Отличительной особен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танции   УКВ   диапазона  005,  разработанная  одесским  объединением   «Телекарт-Прибор»,  является   её  возможность  работать  по  принципу  ППРЧ  (программной  перестройкой  рабочей частоты),  т.е.  возмож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связи осуществлять псевдослучайную скачкообразную перестройку радиостанции  в  широком диапазоне частот синхронно  на  передающем  и  приёмном концах.  Все  радиосредства  на  которых производились замеры  были развёрнуты  на  штатные  антенные системы.  Уровень  приёма  сигналов  на  радиорелейной  станции  Р-409  контролировался  с  помощью  указателя уровня прибора  П-321.  Уровень  приёма сигналов на радиостанции  005 контролировался по индикатору уровня отображаемый на дисплее радиостанции.  Для  приёма сигналов в диапазоне  до  30 МГц  был  задействован радиоприёмник  Р-160 из комплекта радиостанции Р-161А-2М выход которого бы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ключен к указателю уровня прибора  П-32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итель мощности был нагружен на эквивалент нагрузки сопротивлением  50 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установленным на крыше кузова радиоста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-14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квивалент нагрузки был сделан 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ву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грузоч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зисторов, применяем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ющ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разной антенны. Соединение  выхода усилителя мощности  и  эквивалента нагрузки осуществлялась через ВЧ  разъем блока  ВЧП  коаксиальным кабелем  марки РК-48 длинною 2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учи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лее широк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кретн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ти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ектра побочных излучений,  радиостан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-140 перестраивалась через каждые 200 кГц. Одновремен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ерестройкой частоты корректировалась настройка перв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торого каскадов усилителя мощности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рой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изменяемых частотах была оптимальн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полученных измерений были построены графические таблицы,  показывающие весь спектр побочны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уч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датчи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иоста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-14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ющ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С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д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енно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ы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ес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сток диапазо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6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 Мгц полностью поражен гармониками от сигнала передатчика работающего в диапазоне от 1,5 до 5,1 Мгц. И это при том, что фиксировались только те гармоники, которые имели уровень на выход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х приемников в пределах 1,5 вольта. Уровни гармоник высших порядков, с уровнем прием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1,5 воль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ульта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итывались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льших расстоя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а излучения их проявление, будет незначительно. Вызывает интерес спектра побочных излучений от работы передатч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ительск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пазо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метров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побочных излуч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11-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ряд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выше, может прив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созданию значительных помех в УКВ диапазоне. Вот почему, отдельные радиолюбители жалуются на создание помех телевизионным приемникам при их работе в этих диапазонах частот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еримент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тчи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диоста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-1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естраивал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МГ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иапазо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от о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5.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4,5 МГц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диапазон частот взят для особого анализа, так как в основном используется для организации радиосвязи в дневное время суток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ид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представленной таблицы проявление гармоник с 3-го порядка также поражают значительную часть УКВ диапазона, при том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х уровень будет намного больше, че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ровн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л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соких порядков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почему,  любительск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диоста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иапазо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метров гораздо меньше дают помех телевизионным приемникам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чем свидетельствует информация полученн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их радиолюбителей.  Измерения  уровней  побочных  излучений  на частотах  выше  15 МГц  не  проводились, так как проявляющееся при этом гармоники 2, 3, 4 порядков будут иметь ещё больший уровень и 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влияние на забитее частот УКВ диапазонов будет проявляться в большей степени. Согласно теории радиосигналов, уровень гармоники 2-го порядка составляет 43% от первой. Как видите, дальнейший расчёт просто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смысла. Исследуемый диапазон частот от 1,5 до 15 МГц был взят ещё и потому, что в организации в которой ставился данный эксперимент, для радиосвязи на расстояние до 1200 – 1300 км используются именно этот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пазона частот, с учётом времени года и суток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еличины нейтродинной ёмкости производится, как правило, при сборке усилителя в заводских условиях. Очевидно, что при смене лампы ГУ-43Б, а  также  учитывая  фактор  времени использования усилителя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 этой ёмкости изменяется  и  баланс  моста частично нарушается . С помощью  селективного  вольтметра  В6-10 были произведены замеры уровней побочных излучений при различных положениях нейтродинной ёмкости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примера приведена схема нейтродинирования  на  втором поддиапазоне усилителя  мощности.  Функции двух плеч моста выполняют междуэлектродная ёмк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ёмкость нейтродинного конденсат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Двумя другими плечами моста служат  ёмкости  П - контура  усилителя напряж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9,  с  которых подаются в противофазе напряжения возбуждения  на  сетку лампы ГУ-43Б и напряжение нейтродинирования  на  нейтродинный конденсатор  С18, соединённый с анодом лампы усилителя. Сам мост образуют  ёмкости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18, С9 и С15.  При  балансе моста элементы, входящие в его диагонали, т.е. индуктивность вариомет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нтур выходного каскада,  полностью развязаны. Поэтому прямое прохождение энергии  из  сеточной цепи в анодную  и  обратный  переход  энергии  из анодной цепи  в контур предыдущего каскада через ёмкость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оисходит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Ёмкость  конденсатора нейтродинирования небольшая, около 0,1 – 0,5 п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, одна пластина конденсатора выполнена  вместе с креплением анода лампы ГУ-43Б на ламповой панели. Вторая пластина конденсатора  размещена  на  шасси  блока усилителя напряжения на изолирующей опо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ел регулировки конденсатора нейтродинирования представляет собой подвижный узел, с помощью которого регулируется его ёмкость. Процесс изменения ёмкости, заключается в изменении диаметра отверстия межу пласт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денсатора. Это отверстие размещено на боковой стенке корпуса первого каскада УМ,  ближе к лампе ГУ-43Б.  Если  была  необходимость  в  снятии  крышки первого каскада  УМ, то при  её установки на место необходимо оч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о совместить пазы регулировочного узла с ребром  экрана, закрывающее отверстие между пластинами нейтродинного конденсатора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E04A-07FB-4AAF-AD5E-3022D152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56E-7E8E-415A-85B3-CEC67230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CF6-AE50-4288-AC0A-4C8D9F5B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E96-956E-496C-AB8B-E64EB161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A909-6467-4C43-9C84-5D816D5A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DC80-8B4B-402B-BB3C-99441CF6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06D3-30BB-4489-89D5-9AB05B2C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A76-2B9E-48BA-99E1-02FAB562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5AFB-DD7E-47AE-93AF-8AD057B0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B891-748A-4F4F-8126-70FF140D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4BE7-4CA1-4F5D-8F0B-000E87AF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607E-A8FF-4110-BE48-2634B71E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8CE6-533A-4ECA-B035-65017999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0842-8847-4D77-A1C3-19B756F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0643-B57C-4B09-B45D-44467B98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684B-5DD8-40E7-B6C2-AF983C7E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ECBF-28AA-47DD-BA8A-3F69CCF6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C87-4CF1-446D-B13C-C5D52E58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683-0C4E-45F0-B324-9453FC45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F02-06E6-4DA5-A8CE-FC503D1A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743A-9080-4978-B556-5074781D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A5F-EA40-4A35-B668-CEB7334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207-A3E9-4AD0-81C7-B37C6CF8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A9F-75AD-4AEC-8A4B-23C34D5C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697D-4D58-44B2-B35A-C8B8DD298D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69BD-E140-4FF3-9DF8-486E7891C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обенности эксплуатации усилителя мощности радиостанции Р-140 без УС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7772400" cy="26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ячеслав Ермач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0HZ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Полтава, Укра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вод регулировки С1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48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ие  усилителя  мощности  радиостанции  Р-140  без  У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ямым  образом связано  с  излучением кроме основного сигнал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ольшого   спектра  побочных   колебаний  значительных  уров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 может   привести   к   созданию  помех   в  широком диапазо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от  радиоаппаратуре  самого  различного назначения,  начи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    радиоприёмников,    телевизоров,   радиостанций    различ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домств  и  учреждений.  Самовозбуждение  усилителя мощ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жет  также  привести  к  выводу  из  строя  самой лампы  ГУ-43Б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оимость  которой   большая,   а  также  к  пробою  конденсат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язки   ламповой  панели,  в  результате  чего  может произой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рьёзные поломки  в выпрямительных устройствах радиостан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лучаях применение  усилителя  мощности  радиостанции  Р-1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з  УСС необходим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ять только штатные значения питающих напряжен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 токов  ламп,  а  также  режимы  работы  каскадов  усил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допускать появления тока управляющей сетки лампы ГУ-43Б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йтрализацию  проходной  ёмкости  лампы выходного  каск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ить  при  каждой  замене  лампы  ГУ-43Б,  так  как  балан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ста при этом частично нарушает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 как опасность самовозбуждения выходного каскада с рос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астоты увеличивается,  то  особо  тщательно необходимо  дел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улировку  на  пятом  поддиапазоне,  в  районе  частоты  30 МГц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енное реле для приёмни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26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денсато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Ф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2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гласующий трансформат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ле полудуплекс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2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бник по Р-14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ьбом схе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0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илитель мощности радиостанции Р-140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назначен  для усиления сигна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высокой   частоты   до   мощности  не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менее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Вт  в  диапазоне  част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5  –  3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МГц  во всех  родах  и видах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работ  радиостан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илитель двухкаскад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й каскад ламповый, на  ламп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Э5П – 2 шт.,  усилитель напря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торой  каскад  ламповый,  на ламп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У-43Б, усилитель мощ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й каскад работает в режиме класс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торой каскад работает в  режиме класс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позволяет получить мощность не ме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  Вт.  при  принудительном охлаждени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хема эксперимен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508640"/>
            <a:ext cx="936720" cy="93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-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28464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422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060640"/>
            <a:ext cx="9144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2997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2060640"/>
            <a:ext cx="3168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рлс Р- 409 (60- 420 МГ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24720" y="2060640"/>
            <a:ext cx="86364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-3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2492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4581360"/>
            <a:ext cx="3168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В Рст 005 (30-110 МГ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3284640"/>
            <a:ext cx="316872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прк Р-160 (1,5-60 МГ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3284640"/>
            <a:ext cx="86364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-3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4360" y="37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002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50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мет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измерений побоч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луче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. = 1,5 - 5,1 МГ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633680"/>
            <a:ext cx="6537240" cy="40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измерений побочны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луче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. = 5 - 14 МГц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блица измерений уровней гармони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хема нейтрализ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обеспечения устойчи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ы выходного каска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частотах свыше 3 МГ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менена мостовая сх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очного нейтродин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асность самовозбу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ходного каскада возраст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 увеличением частоты, ч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может привести к резк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еличению уровня изл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89920" indent="-19872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бочных колебаний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денсатор нейтродинирования С1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04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ел регулировки С18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7:37:57Z</dcterms:created>
  <dc:creator>www.PHILka.RU</dc:creator>
  <dc:description/>
  <dc:language>en-US</dc:language>
  <cp:lastModifiedBy>www.PHILka.RU</cp:lastModifiedBy>
  <dcterms:modified xsi:type="dcterms:W3CDTF">2009-09-23T16:09:30Z</dcterms:modified>
  <cp:revision>133</cp:revision>
  <dc:subject/>
  <dc:title> Особенности эксплуатации усилителя мощности радиостанции Р-140 без УСС.</dc:title>
</cp:coreProperties>
</file>